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18C-8F32-4D32-A0E8-5EA2AEA2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E09-1C73-4C29-A2A0-C5896C405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8B4-0EBA-4AC2-9A7C-74B9525EF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99D-9BDE-415B-A859-BD3B9FDBC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397C-FDB7-44F1-AAE4-F543F071A6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C7D8-35C0-42C7-88A1-3B8BCB923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C8B6-DA21-45A3-B01E-DA5FD9448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787F-542B-4449-AEC2-ED1DBA755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62D8-19A7-4B37-86DF-829C49BF3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3A5-CBB6-4E45-A0DF-F332C29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490-D6F1-45AD-8980-F443667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972-8FB8-4340-88C3-F477D61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72A-340E-497E-8B18-1345E33B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D16-77D5-4E19-8716-7228F922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067-FD62-44F1-9B57-E181A37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5D4-6DD3-46F3-85B9-C667A52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05D-F92B-450E-998A-A818CD65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A3C-483E-44FD-B22C-108F4499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210-22FE-42B3-825F-9DA53F8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845-8B5B-4C2A-B9E4-336D8FF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91F-06D7-4200-85DC-90BFD75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9D8E-4ADE-4CC1-89AA-5787A4487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Lesson 11 - 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ificance T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nufacturer claims that there are at least two scoops of cranberries in each box of 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er to be t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Typ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533520" y="213372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33520" y="4229280"/>
            <a:ext cx="7162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ft-tailed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“bad case” is when there are too f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155600" y="52196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oops = 2 (or more)  (s ≥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219320" y="5791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ss than two scoops  (s &lt;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33520" y="2133720"/>
            <a:ext cx="83818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ber of scoops of cranberries in each box of cere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the sample mean is too low, that is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the sample mean is too high, that is not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nufacturer claims that there are exactly 500 mg of a medication in each tab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er to be t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Typ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09480" y="4051440"/>
            <a:ext cx="7848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wo-tailed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“bad case” is when there are too f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“bad case” is also where there are too 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33520" y="2025720"/>
            <a:ext cx="84582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of a medication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each tab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the sample mean is too low, that is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the sample mean is too high, that is a problem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43000" y="5627520"/>
            <a:ext cx="4648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= 500 m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43000" y="6110280"/>
            <a:ext cx="4648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≠ 500 m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3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ollster claims that there are at most 56% of all Americans are in favor of an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er to be t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Typ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39680" y="4152960"/>
            <a:ext cx="8852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-tailed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“bad case” is when sample proportion is too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600" y="2120760"/>
            <a:ext cx="86914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pulation proportion in favor of the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p-hat is too low, that is not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p-hat is too high, that is a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95280" y="546264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 = 56% (or l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95280" y="6019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 &gt; 5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Conditions for Significance Test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random sample from population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eans:  population normal or large enough sample size for CLT to apply or use t-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procedures:  boxplot or normality plot to check for shape and any outliers (outliers is a kil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proportions: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≥ 10 an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≥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, N, such that N &gt; 10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Test Statistic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les that apply to most t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st is based on a statistic that compares the value of the parameter as stated i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th an estimate of the parameter from the sampl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s of the estimate far from the parameter value in the direction specified by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ive evidence against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assess how far the estimate is from the parameter, standardize the estimate.  In many common situations, the test statistic has the form:</a:t>
            </a:r>
            <a:br>
              <a:rPr sz="2000"/>
            </a:br>
            <a:br>
              <a:rPr sz="12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estimate – hypothesized value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st statistic  =  ------------------------------------------------------------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standard deviation of the estimate (ie 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4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cities have begun to monitor paramedic response times.  In one such city, the mean response time to all accidents involving life-threatening injuries last year was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6.7 minutes with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2 minutes.  The city manager shares this info with the emergency personnel and encourages them to “do better” next year.  At the end of the following year, the city manager selects a SRS of 400 calls involving life-threatening injuries and examines response times.  For this sample the mean response time was x-bar = 6.48 minutes.  Do these data provide good evidence that the response times have decreased since last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arameter, hypotheses and conditions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4 cont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56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meter: the mean response time to all accidents involving life-threatening injuries in this 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itions 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         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                 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                        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086120" y="1581120"/>
            <a:ext cx="43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6.7 minutes (unchan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914400" y="2006640"/>
            <a:ext cx="53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lt; 6.7 minutes (they got “better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25040" y="37688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c2e0"/>
                </a:solidFill>
                <a:latin typeface="Arial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994040" y="380988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d in problem sta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7920" y="4191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c2e0"/>
                </a:solidFill>
                <a:latin typeface="Arial"/>
              </a:rPr>
              <a:t>Norm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524680" y="426708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 = 400 suggest CLT would apply to x-b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738000" y="46306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c2e0"/>
                </a:solidFill>
                <a:latin typeface="Arial"/>
              </a:rPr>
              <a:t>In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1621080" y="5105520"/>
            <a:ext cx="591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 = 400 means we must assume over 4000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ach year that involve life-threatening inju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Hypothesis Testing Approach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-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gic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ing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rue, if the probability of getting a sample mea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s extreme or more extrem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n the one obtained is small, then we reject the null hypothesis (accept the alternati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ical (Statistical Significan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gic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sample mean is too many standard deviations from the mean stated in the null hypothesis, then we reject the null hypothesis (accept the alternat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dence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gic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sample mean lies in the confidence interval about the status quo, then we fail to reject the null hypo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35"/>
          <p:cNvGrpSpPr/>
          <p:nvPr/>
        </p:nvGrpSpPr>
        <p:grpSpPr>
          <a:xfrm>
            <a:off x="1442880" y="1176480"/>
            <a:ext cx="2595600" cy="1795680"/>
            <a:chOff x="1442880" y="1176480"/>
            <a:chExt cx="2595600" cy="1795680"/>
          </a:xfrm>
        </p:grpSpPr>
        <p:grpSp>
          <p:nvGrpSpPr>
            <p:cNvPr id="135" name="Group 12"/>
            <p:cNvGrpSpPr/>
            <p:nvPr/>
          </p:nvGrpSpPr>
          <p:grpSpPr>
            <a:xfrm>
              <a:off x="1442880" y="1176480"/>
              <a:ext cx="2595600" cy="1386720"/>
              <a:chOff x="1442880" y="1176480"/>
              <a:chExt cx="2595600" cy="13867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358800" y="2145960"/>
                <a:ext cx="677880" cy="13788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27" h="87">
                    <a:moveTo>
                      <a:pt x="427" y="62"/>
                    </a:moveTo>
                    <a:lnTo>
                      <a:pt x="427" y="87"/>
                    </a:lnTo>
                    <a:lnTo>
                      <a:pt x="187" y="86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76" y="29"/>
                    </a:lnTo>
                    <a:lnTo>
                      <a:pt x="156" y="44"/>
                    </a:lnTo>
                    <a:lnTo>
                      <a:pt x="250" y="54"/>
                    </a:lnTo>
                    <a:lnTo>
                      <a:pt x="344" y="59"/>
                    </a:lnTo>
                    <a:lnTo>
                      <a:pt x="427" y="6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454040" y="2144520"/>
                <a:ext cx="677880" cy="147240"/>
              </a:xfrm>
              <a:custGeom>
                <a:avLst/>
                <a:gdLst/>
                <a:ahLst/>
                <a:rect l="l" t="t" r="r" b="b"/>
                <a:pathLst>
                  <a:path w="427" h="93">
                    <a:moveTo>
                      <a:pt x="0" y="62"/>
                    </a:moveTo>
                    <a:lnTo>
                      <a:pt x="0" y="87"/>
                    </a:lnTo>
                    <a:lnTo>
                      <a:pt x="228" y="93"/>
                    </a:lnTo>
                    <a:lnTo>
                      <a:pt x="427" y="87"/>
                    </a:lnTo>
                    <a:lnTo>
                      <a:pt x="427" y="0"/>
                    </a:lnTo>
                    <a:lnTo>
                      <a:pt x="351" y="29"/>
                    </a:lnTo>
                    <a:lnTo>
                      <a:pt x="271" y="44"/>
                    </a:lnTo>
                    <a:lnTo>
                      <a:pt x="177" y="54"/>
                    </a:lnTo>
                    <a:lnTo>
                      <a:pt x="83" y="59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"/>
              <p:cNvSpPr/>
              <p:nvPr/>
            </p:nvSpPr>
            <p:spPr>
              <a:xfrm>
                <a:off x="1996560" y="2212560"/>
                <a:ext cx="551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-z*</a:t>
                </a:r>
                <a:r>
                  <a:rPr b="1" lang="el-GR" sz="14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α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/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6"/>
              <p:cNvSpPr/>
              <p:nvPr/>
            </p:nvSpPr>
            <p:spPr>
              <a:xfrm>
                <a:off x="3209040" y="2226960"/>
                <a:ext cx="491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z*</a:t>
                </a:r>
                <a:r>
                  <a:rPr b="1" lang="el-GR" sz="14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α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/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442880" y="1176480"/>
                <a:ext cx="2595600" cy="107604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6040"/>
                  <a:gd name="textAreaBottom" fmla="*/ 1076400 h 107604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8"/>
              <p:cNvSpPr/>
              <p:nvPr/>
            </p:nvSpPr>
            <p:spPr>
              <a:xfrm>
                <a:off x="1450800" y="2280960"/>
                <a:ext cx="2581200" cy="1080"/>
              </a:xfrm>
              <a:custGeom>
                <a:avLst/>
                <a:gdLst>
                  <a:gd name="textAreaLeft" fmla="*/ 0 w 2581200"/>
                  <a:gd name="textAreaRight" fmla="*/ 2581560 w 2581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26" h="1">
                    <a:moveTo>
                      <a:pt x="0" y="0"/>
                    </a:moveTo>
                    <a:lnTo>
                      <a:pt x="1396" y="1"/>
                    </a:lnTo>
                    <a:lnTo>
                      <a:pt x="1626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19"/>
              <p:cNvSpPr/>
              <p:nvPr/>
            </p:nvSpPr>
            <p:spPr>
              <a:xfrm>
                <a:off x="3355920" y="2190600"/>
                <a:ext cx="0" cy="134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0"/>
              <p:cNvSpPr/>
              <p:nvPr/>
            </p:nvSpPr>
            <p:spPr>
              <a:xfrm>
                <a:off x="2131920" y="2182320"/>
                <a:ext cx="0" cy="13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Text Box 28"/>
            <p:cNvSpPr/>
            <p:nvPr/>
          </p:nvSpPr>
          <p:spPr>
            <a:xfrm>
              <a:off x="1943640" y="2634840"/>
              <a:ext cx="14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ject Reg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AutoShape 30"/>
            <p:cNvCxnSpPr>
              <a:stCxn id="144" idx="1"/>
            </p:cNvCxnSpPr>
            <p:nvPr/>
          </p:nvCxnSpPr>
          <p:spPr>
            <a:xfrm rot="10800000">
              <a:off x="1815120" y="2291400"/>
              <a:ext cx="118080" cy="512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6" name="AutoShape 32"/>
            <p:cNvCxnSpPr>
              <a:stCxn id="144" idx="3"/>
            </p:cNvCxnSpPr>
            <p:nvPr/>
          </p:nvCxnSpPr>
          <p:spPr>
            <a:xfrm flipV="1">
              <a:off x="3424680" y="2282040"/>
              <a:ext cx="231840" cy="522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47" name="Group 35"/>
          <p:cNvGrpSpPr/>
          <p:nvPr/>
        </p:nvGrpSpPr>
        <p:grpSpPr>
          <a:xfrm>
            <a:off x="1067760" y="3121200"/>
            <a:ext cx="7000560" cy="1092240"/>
            <a:chOff x="1067760" y="3121200"/>
            <a:chExt cx="7000560" cy="1092240"/>
          </a:xfrm>
        </p:grpSpPr>
        <p:sp>
          <p:nvSpPr>
            <p:cNvPr id="148" name="Text Box 33"/>
            <p:cNvSpPr/>
            <p:nvPr/>
          </p:nvSpPr>
          <p:spPr>
            <a:xfrm>
              <a:off x="1067760" y="3121200"/>
              <a:ext cx="700056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 –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μ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Statistic:      z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-------------            z* = invnorm(1-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α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/2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σ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/√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>
              <a:off x="3954600" y="3201120"/>
              <a:ext cx="95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280760" y="3796560"/>
              <a:ext cx="141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1517760" y="4556160"/>
          <a:ext cx="6108480" cy="1920960"/>
        </p:xfrm>
        <a:graphic>
          <a:graphicData uri="http://schemas.openxmlformats.org/drawingml/2006/table">
            <a:tbl>
              <a:tblPr/>
              <a:tblGrid>
                <a:gridCol w="2044440"/>
                <a:gridCol w="2032200"/>
                <a:gridCol w="2031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ject null hypothesis, i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usually d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lt; - z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gt;  z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usually d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Confidence Interval Approach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cxnSp>
        <p:nvCxnSpPr>
          <p:cNvPr id="153" name="Straight Arrow Connector 37"/>
          <p:cNvCxnSpPr/>
          <p:nvPr/>
        </p:nvCxnSpPr>
        <p:spPr>
          <a:xfrm>
            <a:off x="5486400" y="2286000"/>
            <a:ext cx="31248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154" name="Double Bracket 38"/>
          <p:cNvSpPr/>
          <p:nvPr/>
        </p:nvSpPr>
        <p:spPr>
          <a:xfrm>
            <a:off x="5896080" y="2098800"/>
            <a:ext cx="2286000" cy="380880"/>
          </a:xfrm>
          <a:prstGeom prst="bracketPair">
            <a:avLst>
              <a:gd name="adj" fmla="val 17129"/>
            </a:avLst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40"/>
          <p:cNvSpPr/>
          <p:nvPr/>
        </p:nvSpPr>
        <p:spPr>
          <a:xfrm>
            <a:off x="7039080" y="20988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6866640" y="24382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7927560" y="1752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43"/>
          <p:cNvSpPr/>
          <p:nvPr/>
        </p:nvSpPr>
        <p:spPr>
          <a:xfrm>
            <a:off x="5718240" y="1752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487200" y="281952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ject Reg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AutoShape 30"/>
          <p:cNvCxnSpPr>
            <a:stCxn id="159" idx="1"/>
          </p:cNvCxnSpPr>
          <p:nvPr/>
        </p:nvCxnSpPr>
        <p:spPr>
          <a:xfrm rot="10800000">
            <a:off x="5714280" y="2437560"/>
            <a:ext cx="762840" cy="551520"/>
          </a:xfrm>
          <a:prstGeom prst="bentConnector3">
            <a:avLst>
              <a:gd name="adj1" fmla="val 976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AutoShape 32"/>
          <p:cNvCxnSpPr>
            <a:stCxn id="159" idx="3"/>
          </p:cNvCxnSpPr>
          <p:nvPr/>
        </p:nvCxnSpPr>
        <p:spPr>
          <a:xfrm flipV="1">
            <a:off x="7967520" y="2513880"/>
            <a:ext cx="342000" cy="475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TextBox 50"/>
          <p:cNvSpPr/>
          <p:nvPr/>
        </p:nvSpPr>
        <p:spPr>
          <a:xfrm>
            <a:off x="6307560" y="13716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FTR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5"/>
          <p:cNvGrpSpPr/>
          <p:nvPr/>
        </p:nvGrpSpPr>
        <p:grpSpPr>
          <a:xfrm>
            <a:off x="6230880" y="1176480"/>
            <a:ext cx="2595600" cy="1393200"/>
            <a:chOff x="6230880" y="1176480"/>
            <a:chExt cx="2595600" cy="1393200"/>
          </a:xfrm>
        </p:grpSpPr>
        <p:sp>
          <p:nvSpPr>
            <p:cNvPr id="164" name="Freeform 6"/>
            <p:cNvSpPr/>
            <p:nvPr/>
          </p:nvSpPr>
          <p:spPr>
            <a:xfrm>
              <a:off x="8145360" y="2147760"/>
              <a:ext cx="677880" cy="137880"/>
            </a:xfrm>
            <a:custGeom>
              <a:avLst/>
              <a:gdLst>
                <a:gd name="textAreaLeft" fmla="*/ 0 w 677880"/>
                <a:gd name="textAreaRight" fmla="*/ 677880 w 67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95" y="79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6230880" y="1176480"/>
              <a:ext cx="2595600" cy="1114200"/>
              <a:chOff x="6230880" y="1176480"/>
              <a:chExt cx="2595600" cy="1114200"/>
            </a:xfrm>
          </p:grpSpPr>
          <p:sp>
            <p:nvSpPr>
              <p:cNvPr id="166" name="Freeform 8"/>
              <p:cNvSpPr/>
              <p:nvPr/>
            </p:nvSpPr>
            <p:spPr>
              <a:xfrm>
                <a:off x="6230880" y="1176480"/>
                <a:ext cx="2595600" cy="107676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6760"/>
                  <a:gd name="textAreaBottom" fmla="*/ 1076760 h 107676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9"/>
              <p:cNvSpPr/>
              <p:nvPr/>
            </p:nvSpPr>
            <p:spPr>
              <a:xfrm>
                <a:off x="6230880" y="2289960"/>
                <a:ext cx="2588760" cy="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Text Box 10"/>
            <p:cNvSpPr/>
            <p:nvPr/>
          </p:nvSpPr>
          <p:spPr>
            <a:xfrm>
              <a:off x="7997040" y="2233440"/>
              <a:ext cx="334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l-GR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8137440" y="220176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3270240" y="1176480"/>
            <a:ext cx="2595600" cy="1387080"/>
            <a:chOff x="3270240" y="1176480"/>
            <a:chExt cx="2595600" cy="1387080"/>
          </a:xfrm>
        </p:grpSpPr>
        <p:sp>
          <p:nvSpPr>
            <p:cNvPr id="171" name="Freeform 13"/>
            <p:cNvSpPr/>
            <p:nvPr/>
          </p:nvSpPr>
          <p:spPr>
            <a:xfrm>
              <a:off x="5186160" y="2146320"/>
              <a:ext cx="677880" cy="138240"/>
            </a:xfrm>
            <a:custGeom>
              <a:avLst/>
              <a:gdLst/>
              <a:ahLst/>
              <a:rect l="l" t="t" r="r" b="b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87" y="8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81400" y="2144880"/>
              <a:ext cx="677880" cy="147600"/>
            </a:xfrm>
            <a:custGeom>
              <a:avLst/>
              <a:gdLst/>
              <a:ahLst/>
              <a:rect l="l" t="t" r="r" b="b"/>
              <a:pathLst>
                <a:path w="427" h="93">
                  <a:moveTo>
                    <a:pt x="0" y="62"/>
                  </a:moveTo>
                  <a:lnTo>
                    <a:pt x="0" y="87"/>
                  </a:lnTo>
                  <a:lnTo>
                    <a:pt x="228" y="93"/>
                  </a:lnTo>
                  <a:lnTo>
                    <a:pt x="427" y="87"/>
                  </a:lnTo>
                  <a:lnTo>
                    <a:pt x="427" y="0"/>
                  </a:lnTo>
                  <a:lnTo>
                    <a:pt x="351" y="29"/>
                  </a:lnTo>
                  <a:lnTo>
                    <a:pt x="271" y="44"/>
                  </a:lnTo>
                  <a:lnTo>
                    <a:pt x="177" y="54"/>
                  </a:lnTo>
                  <a:lnTo>
                    <a:pt x="83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817800" y="2212920"/>
              <a:ext cx="480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z</a:t>
              </a:r>
              <a:r>
                <a:rPr b="1" lang="el-GR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α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5031000" y="2227320"/>
              <a:ext cx="42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l-GR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α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3270240" y="1176480"/>
              <a:ext cx="2595600" cy="107640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2270" h="1145">
                  <a:moveTo>
                    <a:pt x="0" y="1145"/>
                  </a:moveTo>
                  <a:cubicBezTo>
                    <a:pt x="92" y="1129"/>
                    <a:pt x="413" y="1127"/>
                    <a:pt x="554" y="1048"/>
                  </a:cubicBezTo>
                  <a:cubicBezTo>
                    <a:pt x="695" y="969"/>
                    <a:pt x="750" y="845"/>
                    <a:pt x="844" y="670"/>
                  </a:cubicBezTo>
                  <a:cubicBezTo>
                    <a:pt x="938" y="495"/>
                    <a:pt x="1022" y="0"/>
                    <a:pt x="1118" y="0"/>
                  </a:cubicBezTo>
                  <a:cubicBezTo>
                    <a:pt x="1214" y="0"/>
                    <a:pt x="1321" y="495"/>
                    <a:pt x="1419" y="669"/>
                  </a:cubicBezTo>
                  <a:cubicBezTo>
                    <a:pt x="1517" y="843"/>
                    <a:pt x="1564" y="970"/>
                    <a:pt x="1706" y="1048"/>
                  </a:cubicBezTo>
                  <a:cubicBezTo>
                    <a:pt x="1848" y="1126"/>
                    <a:pt x="2153" y="1119"/>
                    <a:pt x="2270" y="113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3278160" y="2281320"/>
              <a:ext cx="2581200" cy="1440"/>
            </a:xfrm>
            <a:custGeom>
              <a:avLst/>
              <a:gdLst>
                <a:gd name="textAreaLeft" fmla="*/ 0 w 2581200"/>
                <a:gd name="textAreaRight" fmla="*/ 2581560 w 258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6" h="1">
                  <a:moveTo>
                    <a:pt x="0" y="0"/>
                  </a:moveTo>
                  <a:lnTo>
                    <a:pt x="1396" y="1"/>
                  </a:lnTo>
                  <a:lnTo>
                    <a:pt x="162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183280" y="219096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3959280" y="2182680"/>
              <a:ext cx="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244440" y="1176480"/>
            <a:ext cx="2597040" cy="1406160"/>
            <a:chOff x="244440" y="1176480"/>
            <a:chExt cx="2597040" cy="1406160"/>
          </a:xfrm>
        </p:grpSpPr>
        <p:sp>
          <p:nvSpPr>
            <p:cNvPr id="180" name="Freeform 22"/>
            <p:cNvSpPr/>
            <p:nvPr/>
          </p:nvSpPr>
          <p:spPr>
            <a:xfrm>
              <a:off x="253800" y="2157480"/>
              <a:ext cx="652680" cy="13788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1" h="87">
                  <a:moveTo>
                    <a:pt x="0" y="62"/>
                  </a:moveTo>
                  <a:lnTo>
                    <a:pt x="0" y="87"/>
                  </a:lnTo>
                  <a:lnTo>
                    <a:pt x="211" y="86"/>
                  </a:lnTo>
                  <a:lnTo>
                    <a:pt x="411" y="87"/>
                  </a:lnTo>
                  <a:lnTo>
                    <a:pt x="411" y="0"/>
                  </a:lnTo>
                  <a:lnTo>
                    <a:pt x="338" y="29"/>
                  </a:lnTo>
                  <a:lnTo>
                    <a:pt x="261" y="44"/>
                  </a:lnTo>
                  <a:lnTo>
                    <a:pt x="170" y="54"/>
                  </a:lnTo>
                  <a:lnTo>
                    <a:pt x="80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768600" y="2246400"/>
              <a:ext cx="394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z</a:t>
              </a:r>
              <a:r>
                <a:rPr b="1" lang="el-GR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906480" y="222264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Group 25"/>
            <p:cNvGrpSpPr/>
            <p:nvPr/>
          </p:nvGrpSpPr>
          <p:grpSpPr>
            <a:xfrm>
              <a:off x="244440" y="1176480"/>
              <a:ext cx="2597040" cy="1117440"/>
              <a:chOff x="244440" y="1176480"/>
              <a:chExt cx="2597040" cy="1117440"/>
            </a:xfrm>
          </p:grpSpPr>
          <p:sp>
            <p:nvSpPr>
              <p:cNvPr id="184" name="Freeform 26"/>
              <p:cNvSpPr/>
              <p:nvPr/>
            </p:nvSpPr>
            <p:spPr>
              <a:xfrm>
                <a:off x="245880" y="1176480"/>
                <a:ext cx="2595600" cy="107604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6040"/>
                  <a:gd name="textAreaBottom" fmla="*/ 1076400 h 107604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>
                <a:off x="244440" y="2293920"/>
                <a:ext cx="2595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28"/>
          <p:cNvSpPr/>
          <p:nvPr/>
        </p:nvSpPr>
        <p:spPr>
          <a:xfrm>
            <a:off x="3771000" y="263520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ject Reg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7" name="AutoShape 29"/>
          <p:cNvCxnSpPr>
            <a:stCxn id="186" idx="1"/>
          </p:cNvCxnSpPr>
          <p:nvPr/>
        </p:nvCxnSpPr>
        <p:spPr>
          <a:xfrm rot="10800000">
            <a:off x="588240" y="2293200"/>
            <a:ext cx="3172680" cy="511920"/>
          </a:xfrm>
          <a:prstGeom prst="bentConnector3">
            <a:avLst>
              <a:gd name="adj1" fmla="val 998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0"/>
          <p:cNvCxnSpPr>
            <a:stCxn id="186" idx="1"/>
          </p:cNvCxnSpPr>
          <p:nvPr/>
        </p:nvCxnSpPr>
        <p:spPr>
          <a:xfrm rot="10800000">
            <a:off x="3642480" y="2291760"/>
            <a:ext cx="118440" cy="513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1"/>
          <p:cNvCxnSpPr>
            <a:stCxn id="186" idx="3"/>
          </p:cNvCxnSpPr>
          <p:nvPr/>
        </p:nvCxnSpPr>
        <p:spPr>
          <a:xfrm flipV="1">
            <a:off x="5250960" y="2272680"/>
            <a:ext cx="3204360" cy="532440"/>
          </a:xfrm>
          <a:prstGeom prst="bentConnector3">
            <a:avLst>
              <a:gd name="adj1" fmla="val 990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6" idx="3"/>
          </p:cNvCxnSpPr>
          <p:nvPr/>
        </p:nvCxnSpPr>
        <p:spPr>
          <a:xfrm flipV="1">
            <a:off x="5251320" y="2282040"/>
            <a:ext cx="232560" cy="523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91" name="Group 35"/>
          <p:cNvGrpSpPr/>
          <p:nvPr/>
        </p:nvGrpSpPr>
        <p:grpSpPr>
          <a:xfrm>
            <a:off x="2632680" y="3121200"/>
            <a:ext cx="3873240" cy="1092240"/>
            <a:chOff x="2632680" y="3121200"/>
            <a:chExt cx="3873240" cy="1092240"/>
          </a:xfrm>
        </p:grpSpPr>
        <p:sp>
          <p:nvSpPr>
            <p:cNvPr id="192" name="Text Box 33"/>
            <p:cNvSpPr/>
            <p:nvPr/>
          </p:nvSpPr>
          <p:spPr>
            <a:xfrm>
              <a:off x="2632680" y="3121200"/>
              <a:ext cx="38732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 –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μ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Statistic:      z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---------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σ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/√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5527800" y="3201120"/>
              <a:ext cx="95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5"/>
            <p:cNvSpPr/>
            <p:nvPr/>
          </p:nvSpPr>
          <p:spPr>
            <a:xfrm>
              <a:off x="5854320" y="3796200"/>
              <a:ext cx="141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1517760" y="4556160"/>
          <a:ext cx="6108480" cy="1920960"/>
        </p:xfrm>
        <a:graphic>
          <a:graphicData uri="http://schemas.openxmlformats.org/drawingml/2006/table">
            <a:tbl>
              <a:tblPr/>
              <a:tblGrid>
                <a:gridCol w="2044440"/>
                <a:gridCol w="2032200"/>
                <a:gridCol w="2031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ject null hypothesis, i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-Tai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lt; - z</a:t>
                      </a:r>
                      <a:r>
                        <a:rPr b="1" lang="el-GR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lt; - z</a:t>
                      </a:r>
                      <a:r>
                        <a:rPr b="1" lang="el-GR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gt;  z </a:t>
                      </a:r>
                      <a:r>
                        <a:rPr b="1" lang="el-GR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gt;  z</a:t>
                      </a:r>
                      <a:r>
                        <a:rPr b="1" lang="el-GR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Classical Approach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Knowledge Objectiv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 why significance testing looks for evidenc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claim rather tha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 favor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l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ll hypothe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ternative 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gnificanc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istical significance (statistical significance at level 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P-valu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-value is the probability of getting a more extreme value if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rue (measures the tai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P-values are evidence against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 is unlikely to occur if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 P-values fail to give evidence against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Yates_3e_Ch11_p68413a"/>
          <p:cNvPicPr/>
          <p:nvPr/>
        </p:nvPicPr>
        <p:blipFill>
          <a:blip r:embed="rId1"/>
          <a:stretch/>
        </p:blipFill>
        <p:spPr>
          <a:xfrm>
            <a:off x="457200" y="2273400"/>
            <a:ext cx="8229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5"/>
          <p:cNvGrpSpPr/>
          <p:nvPr/>
        </p:nvGrpSpPr>
        <p:grpSpPr>
          <a:xfrm>
            <a:off x="6230880" y="1154160"/>
            <a:ext cx="2595600" cy="1393200"/>
            <a:chOff x="6230880" y="1154160"/>
            <a:chExt cx="2595600" cy="1393200"/>
          </a:xfrm>
        </p:grpSpPr>
        <p:sp>
          <p:nvSpPr>
            <p:cNvPr id="201" name="Freeform 6"/>
            <p:cNvSpPr/>
            <p:nvPr/>
          </p:nvSpPr>
          <p:spPr>
            <a:xfrm>
              <a:off x="8145360" y="2125440"/>
              <a:ext cx="677880" cy="137880"/>
            </a:xfrm>
            <a:custGeom>
              <a:avLst/>
              <a:gdLst>
                <a:gd name="textAreaLeft" fmla="*/ 0 w 677880"/>
                <a:gd name="textAreaRight" fmla="*/ 677880 w 67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95" y="79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7"/>
            <p:cNvGrpSpPr/>
            <p:nvPr/>
          </p:nvGrpSpPr>
          <p:grpSpPr>
            <a:xfrm>
              <a:off x="6230880" y="1154160"/>
              <a:ext cx="2595600" cy="1114200"/>
              <a:chOff x="6230880" y="1154160"/>
              <a:chExt cx="2595600" cy="1114200"/>
            </a:xfrm>
          </p:grpSpPr>
          <p:sp>
            <p:nvSpPr>
              <p:cNvPr id="203" name="Freeform 8"/>
              <p:cNvSpPr/>
              <p:nvPr/>
            </p:nvSpPr>
            <p:spPr>
              <a:xfrm>
                <a:off x="6230880" y="1154160"/>
                <a:ext cx="2595600" cy="107676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6760"/>
                  <a:gd name="textAreaBottom" fmla="*/ 1076760 h 107676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9"/>
              <p:cNvSpPr/>
              <p:nvPr/>
            </p:nvSpPr>
            <p:spPr>
              <a:xfrm>
                <a:off x="6230880" y="2267640"/>
                <a:ext cx="2588760" cy="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Text Box 10"/>
            <p:cNvSpPr/>
            <p:nvPr/>
          </p:nvSpPr>
          <p:spPr>
            <a:xfrm>
              <a:off x="7997040" y="221112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8137440" y="217944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90"/>
          <p:cNvGrpSpPr/>
          <p:nvPr/>
        </p:nvGrpSpPr>
        <p:grpSpPr>
          <a:xfrm>
            <a:off x="3270240" y="1154160"/>
            <a:ext cx="2595600" cy="1387080"/>
            <a:chOff x="3270240" y="1154160"/>
            <a:chExt cx="2595600" cy="1387080"/>
          </a:xfrm>
        </p:grpSpPr>
        <p:sp>
          <p:nvSpPr>
            <p:cNvPr id="208" name="Freeform 13"/>
            <p:cNvSpPr/>
            <p:nvPr/>
          </p:nvSpPr>
          <p:spPr>
            <a:xfrm>
              <a:off x="5186520" y="2124000"/>
              <a:ext cx="677880" cy="138240"/>
            </a:xfrm>
            <a:custGeom>
              <a:avLst/>
              <a:gdLst/>
              <a:ahLst/>
              <a:rect l="l" t="t" r="r" b="b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87" y="8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3281400" y="2122560"/>
              <a:ext cx="677880" cy="147600"/>
            </a:xfrm>
            <a:custGeom>
              <a:avLst/>
              <a:gdLst/>
              <a:ahLst/>
              <a:rect l="l" t="t" r="r" b="b"/>
              <a:pathLst>
                <a:path w="427" h="93">
                  <a:moveTo>
                    <a:pt x="0" y="62"/>
                  </a:moveTo>
                  <a:lnTo>
                    <a:pt x="0" y="87"/>
                  </a:lnTo>
                  <a:lnTo>
                    <a:pt x="228" y="93"/>
                  </a:lnTo>
                  <a:lnTo>
                    <a:pt x="427" y="87"/>
                  </a:lnTo>
                  <a:lnTo>
                    <a:pt x="427" y="0"/>
                  </a:lnTo>
                  <a:lnTo>
                    <a:pt x="351" y="29"/>
                  </a:lnTo>
                  <a:lnTo>
                    <a:pt x="271" y="44"/>
                  </a:lnTo>
                  <a:lnTo>
                    <a:pt x="177" y="54"/>
                  </a:lnTo>
                  <a:lnTo>
                    <a:pt x="83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3701160" y="2190600"/>
              <a:ext cx="488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|z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|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16"/>
            <p:cNvSpPr/>
            <p:nvPr/>
          </p:nvSpPr>
          <p:spPr>
            <a:xfrm>
              <a:off x="5025600" y="2205000"/>
              <a:ext cx="42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|z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|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3270240" y="1154160"/>
              <a:ext cx="2595600" cy="107640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2270" h="1145">
                  <a:moveTo>
                    <a:pt x="0" y="1145"/>
                  </a:moveTo>
                  <a:cubicBezTo>
                    <a:pt x="92" y="1129"/>
                    <a:pt x="413" y="1127"/>
                    <a:pt x="554" y="1048"/>
                  </a:cubicBezTo>
                  <a:cubicBezTo>
                    <a:pt x="695" y="969"/>
                    <a:pt x="750" y="845"/>
                    <a:pt x="844" y="670"/>
                  </a:cubicBezTo>
                  <a:cubicBezTo>
                    <a:pt x="938" y="495"/>
                    <a:pt x="1022" y="0"/>
                    <a:pt x="1118" y="0"/>
                  </a:cubicBezTo>
                  <a:cubicBezTo>
                    <a:pt x="1214" y="0"/>
                    <a:pt x="1321" y="495"/>
                    <a:pt x="1419" y="669"/>
                  </a:cubicBezTo>
                  <a:cubicBezTo>
                    <a:pt x="1517" y="843"/>
                    <a:pt x="1564" y="970"/>
                    <a:pt x="1706" y="1048"/>
                  </a:cubicBezTo>
                  <a:cubicBezTo>
                    <a:pt x="1848" y="1126"/>
                    <a:pt x="2153" y="1119"/>
                    <a:pt x="2270" y="113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3278160" y="2259000"/>
              <a:ext cx="2581200" cy="1440"/>
            </a:xfrm>
            <a:custGeom>
              <a:avLst/>
              <a:gdLst>
                <a:gd name="textAreaLeft" fmla="*/ 0 w 2581200"/>
                <a:gd name="textAreaRight" fmla="*/ 2581560 w 258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6" h="1">
                  <a:moveTo>
                    <a:pt x="0" y="0"/>
                  </a:moveTo>
                  <a:lnTo>
                    <a:pt x="1396" y="1"/>
                  </a:lnTo>
                  <a:lnTo>
                    <a:pt x="162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5183280" y="2168640"/>
              <a:ext cx="0" cy="13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>
              <a:off x="3959280" y="216072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1"/>
          <p:cNvGrpSpPr/>
          <p:nvPr/>
        </p:nvGrpSpPr>
        <p:grpSpPr>
          <a:xfrm>
            <a:off x="244440" y="1154160"/>
            <a:ext cx="2597040" cy="1406160"/>
            <a:chOff x="244440" y="1154160"/>
            <a:chExt cx="2597040" cy="1406160"/>
          </a:xfrm>
        </p:grpSpPr>
        <p:sp>
          <p:nvSpPr>
            <p:cNvPr id="217" name="Freeform 22"/>
            <p:cNvSpPr/>
            <p:nvPr/>
          </p:nvSpPr>
          <p:spPr>
            <a:xfrm>
              <a:off x="253800" y="2135160"/>
              <a:ext cx="652680" cy="13788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1" h="87">
                  <a:moveTo>
                    <a:pt x="0" y="62"/>
                  </a:moveTo>
                  <a:lnTo>
                    <a:pt x="0" y="87"/>
                  </a:lnTo>
                  <a:lnTo>
                    <a:pt x="211" y="86"/>
                  </a:lnTo>
                  <a:lnTo>
                    <a:pt x="411" y="87"/>
                  </a:lnTo>
                  <a:lnTo>
                    <a:pt x="411" y="0"/>
                  </a:lnTo>
                  <a:lnTo>
                    <a:pt x="338" y="29"/>
                  </a:lnTo>
                  <a:lnTo>
                    <a:pt x="261" y="44"/>
                  </a:lnTo>
                  <a:lnTo>
                    <a:pt x="170" y="54"/>
                  </a:lnTo>
                  <a:lnTo>
                    <a:pt x="80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3"/>
            <p:cNvSpPr/>
            <p:nvPr/>
          </p:nvSpPr>
          <p:spPr>
            <a:xfrm>
              <a:off x="768960" y="2224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906480" y="220032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Group 25"/>
            <p:cNvGrpSpPr/>
            <p:nvPr/>
          </p:nvGrpSpPr>
          <p:grpSpPr>
            <a:xfrm>
              <a:off x="244440" y="1154160"/>
              <a:ext cx="2597040" cy="1117440"/>
              <a:chOff x="244440" y="1154160"/>
              <a:chExt cx="2597040" cy="1117440"/>
            </a:xfrm>
          </p:grpSpPr>
          <p:sp>
            <p:nvSpPr>
              <p:cNvPr id="221" name="Freeform 26"/>
              <p:cNvSpPr/>
              <p:nvPr/>
            </p:nvSpPr>
            <p:spPr>
              <a:xfrm>
                <a:off x="245880" y="1154160"/>
                <a:ext cx="2595600" cy="107604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6040"/>
                  <a:gd name="textAreaBottom" fmla="*/ 1076400 h 107604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27"/>
              <p:cNvSpPr/>
              <p:nvPr/>
            </p:nvSpPr>
            <p:spPr>
              <a:xfrm>
                <a:off x="244440" y="2271600"/>
                <a:ext cx="2595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Text Box 28"/>
          <p:cNvSpPr/>
          <p:nvPr/>
        </p:nvSpPr>
        <p:spPr>
          <a:xfrm>
            <a:off x="3764160" y="2612880"/>
            <a:ext cx="159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-Value is th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rea highligh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AutoShape 29"/>
          <p:cNvCxnSpPr>
            <a:stCxn id="223" idx="1"/>
          </p:cNvCxnSpPr>
          <p:nvPr/>
        </p:nvCxnSpPr>
        <p:spPr>
          <a:xfrm rot="10800000">
            <a:off x="588240" y="2270880"/>
            <a:ext cx="3172680" cy="632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" name="AutoShape 30"/>
          <p:cNvCxnSpPr>
            <a:stCxn id="223" idx="1"/>
          </p:cNvCxnSpPr>
          <p:nvPr/>
        </p:nvCxnSpPr>
        <p:spPr>
          <a:xfrm rot="10800000">
            <a:off x="3642480" y="2269440"/>
            <a:ext cx="118440" cy="6339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AutoShape 31"/>
          <p:cNvCxnSpPr>
            <a:stCxn id="223" idx="3"/>
          </p:cNvCxnSpPr>
          <p:nvPr/>
        </p:nvCxnSpPr>
        <p:spPr>
          <a:xfrm flipV="1">
            <a:off x="5364000" y="2250720"/>
            <a:ext cx="3091680" cy="6530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AutoShape 32"/>
          <p:cNvCxnSpPr>
            <a:stCxn id="223" idx="3"/>
          </p:cNvCxnSpPr>
          <p:nvPr/>
        </p:nvCxnSpPr>
        <p:spPr>
          <a:xfrm flipV="1">
            <a:off x="5363640" y="2260440"/>
            <a:ext cx="119880" cy="6433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28" name="Group 36"/>
          <p:cNvGrpSpPr/>
          <p:nvPr/>
        </p:nvGrpSpPr>
        <p:grpSpPr>
          <a:xfrm>
            <a:off x="2624760" y="3352680"/>
            <a:ext cx="3873240" cy="1092240"/>
            <a:chOff x="2624760" y="3352680"/>
            <a:chExt cx="3873240" cy="1092240"/>
          </a:xfrm>
        </p:grpSpPr>
        <p:sp>
          <p:nvSpPr>
            <p:cNvPr id="229" name="Text Box 33"/>
            <p:cNvSpPr/>
            <p:nvPr/>
          </p:nvSpPr>
          <p:spPr>
            <a:xfrm>
              <a:off x="2624760" y="3352680"/>
              <a:ext cx="38732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 –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μ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Statistic:      z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---------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r>
                <a:rPr b="1" lang="el-GR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σ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/√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4"/>
            <p:cNvSpPr/>
            <p:nvPr/>
          </p:nvSpPr>
          <p:spPr>
            <a:xfrm>
              <a:off x="5527800" y="3452760"/>
              <a:ext cx="95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5823000" y="4028760"/>
              <a:ext cx="1411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2590920" y="4495680"/>
          <a:ext cx="3938400" cy="895320"/>
        </p:xfrm>
        <a:graphic>
          <a:graphicData uri="http://schemas.openxmlformats.org/drawingml/2006/table">
            <a:tbl>
              <a:tblPr/>
              <a:tblGrid>
                <a:gridCol w="3938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ject null hypothesis, i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-Value &lt; </a:t>
                      </a:r>
                      <a:r>
                        <a:rPr b="1" lang="el-GR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P-Value Approach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4" name="TextBox 35"/>
          <p:cNvSpPr/>
          <p:nvPr/>
        </p:nvSpPr>
        <p:spPr>
          <a:xfrm>
            <a:off x="344520" y="5638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(getting a result further away from the point estimate) = p-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-value is the area in the tail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5:  P-Valu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ach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observed significance level (p-value) pair, indicate whether the null hypothesis would be rej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. 05,   p  = .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.10,  p  = 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.01 ,  p  =  .00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.025 ,  p  = 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) 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.10,  p  =  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5271840" y="2666880"/>
            <a:ext cx="29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P 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fail to reject H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5271840" y="5257800"/>
            <a:ext cx="29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P 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fail to reject H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271840" y="6172200"/>
            <a:ext cx="29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P 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fail to reject H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270040" y="350532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 &lt;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ject H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5270040" y="441972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 &lt;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ject H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xample 4 cont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the P-value associated with the data in example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the sample mean was 6.61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Yates_3e_Ch11_p68407"/>
          <p:cNvPicPr/>
          <p:nvPr/>
        </p:nvPicPr>
        <p:blipFill>
          <a:blip r:embed="rId1"/>
          <a:stretch/>
        </p:blipFill>
        <p:spPr>
          <a:xfrm>
            <a:off x="4419720" y="1600200"/>
            <a:ext cx="4564080" cy="3292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779040" y="2209680"/>
            <a:ext cx="3069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 – </a:t>
            </a: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6.48 – 6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= -----------  =   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√n               0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= -2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774000" y="3886200"/>
            <a:ext cx="34617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(z &lt; Z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= P(z &lt; -2.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= 0.0139   (unusual !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402480" y="5791320"/>
            <a:ext cx="39906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 – </a:t>
            </a: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6.61 – 6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= -----------  =   --------------    =  - 0.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l-GR" sz="1800" spc="-1" strike="noStrike">
                <a:solidFill>
                  <a:srgbClr val="ffff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√n               0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5042880" y="5791320"/>
            <a:ext cx="3882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(z &lt; Z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= P(z &lt; -0.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= 0.1841   (not unusual !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Two-sided Test P-valu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5638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-value is the sum of both tail areas in the two sided test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7" descr="Yates_3e_Ch11_p68414"/>
          <p:cNvPicPr/>
          <p:nvPr/>
        </p:nvPicPr>
        <p:blipFill>
          <a:blip r:embed="rId1"/>
          <a:stretch/>
        </p:blipFill>
        <p:spPr>
          <a:xfrm>
            <a:off x="1276200" y="1036800"/>
            <a:ext cx="65836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tatistical Significance Dfn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ly significant means simply that it is not likely to happen just by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ificant in the statistical sense does not mean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large samples can make very small differences statistically significant, but not practically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Yates_3e_Ch11_p68416b"/>
          <p:cNvPicPr/>
          <p:nvPr/>
        </p:nvPicPr>
        <p:blipFill>
          <a:blip r:embed="rId1"/>
          <a:stretch/>
        </p:blipFill>
        <p:spPr>
          <a:xfrm>
            <a:off x="457200" y="4648320"/>
            <a:ext cx="8229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tatistical Significance – P-valu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06668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using a P-value, we compare it with a level of significance,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decided at the start of the t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significant when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ificant when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≥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8" descr="Yates_3e_Ch11_p68417"/>
          <p:cNvPicPr/>
          <p:nvPr/>
        </p:nvPicPr>
        <p:blipFill>
          <a:blip r:embed="rId1"/>
          <a:stretch/>
        </p:blipFill>
        <p:spPr>
          <a:xfrm>
            <a:off x="457200" y="4140360"/>
            <a:ext cx="8229600" cy="2412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580680" y="3576600"/>
            <a:ext cx="248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Fail to Reject H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3902400" y="3576600"/>
            <a:ext cx="149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Reject H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tatistical Significance Interpretation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mber the three C’s: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, connection,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Either we have evidence to reject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favor of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r we fail to re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ction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 your calculated values to your 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ext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put it in terms of the problem (don’t use generalized state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tatistical Significance Warning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are going to draw a conclusion base on statistical significance, then the significance level 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be stated before the data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ceptive users of statistics might set an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level after the data have been analyzed to manipulate the 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-values give a better sense of how strong the evidence against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just as inappropriate as choosing an alternative hypothesis to be one-sided in a particular direc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f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ooking at th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ummary and Homework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ficance test assesses evidence provided by data against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favor of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n be two-sided (different, ≠) or one-sided (specific direction, &lt; or 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three conditions as with confidence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statistic is usually a standardiz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-value, the probability of getting a more extreme value given that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ru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small we reject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.3, 11.6 – 11.8, 11.12 – 11.14, 11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Construction Objectiv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 the difference between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e-sided hypothe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wo-sided hypothes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the three conditions that need to be present before doing a significance test for a m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 what is meant by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 statist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Give the general form of a test statist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ain the difference between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-value appro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significance testing an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istical significance appro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Vocabulary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Hypothes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– a statement or claim regarding a characteristic of one or more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Hypothesis Tes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– procedure, base on sample evidence and probability, used to test hypo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ull Hypothes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– H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is a statement to be tested; assumed to be true until evidence indicates other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lternative Hypothes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– H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is a claim to be tested.(what we will test to see if evidence supports the poss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Level of Significanc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– probability of making a Type I error, 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Steps in Hypothesis Testing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laim is 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(sample data) is collected to test the cl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ata are analyzed to assess the plausibility (not proof!!) of the cl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 Hypothesis testing is also called Significance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4400" y="1630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Hypotheses:  Null H</a:t>
            </a:r>
            <a:r>
              <a:rPr b="1" lang="en-US" sz="3600" spc="-1" strike="noStrike" baseline="-25000">
                <a:solidFill>
                  <a:srgbClr val="e3ebf1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 &amp; Alternative H</a:t>
            </a:r>
            <a:r>
              <a:rPr b="1" lang="en-US" sz="3600" spc="-1" strike="noStrike" baseline="-25000">
                <a:solidFill>
                  <a:srgbClr val="e3ebf1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of the null hypothesis as the status q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of the alternative hypothesis as something has changed or is different than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 not pr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null hypothesis!  We only can find enough evidence to reject the null hypothesis or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0" descr="Yates_3e_Ch11_p68408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12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Hypotheses Cont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r hypotheses will only invol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pulation para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we know the sample statistics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lternative hypothesis can 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ne-sid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 0 or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lt; 0 (which allows a statistician to detect movement in a specific dire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o-sid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(things have 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the problem statement carefully to decide which is appropri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ll hypothesis is usually “=“, but if the alternative is one-sided, the null could be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12640" y="171360"/>
            <a:ext cx="810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Three Ways – H</a:t>
            </a:r>
            <a:r>
              <a:rPr b="1" lang="en-US" sz="3600" spc="-1" strike="noStrike" baseline="-25000">
                <a:solidFill>
                  <a:srgbClr val="e3ebf1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 versus H</a:t>
            </a:r>
            <a:r>
              <a:rPr b="1" lang="en-US" sz="3600" spc="-1" strike="noStrike" baseline="-25000">
                <a:solidFill>
                  <a:srgbClr val="e3ebf1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8"/>
          <p:cNvSpPr/>
          <p:nvPr/>
        </p:nvSpPr>
        <p:spPr>
          <a:xfrm>
            <a:off x="214200" y="3132000"/>
            <a:ext cx="86806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Equal versus less than (left-tailed te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99cc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: the parameter = some value (or m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: the parameter &lt; some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Equal hypothesis versus not equal hypothesis (two-tailed te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99ff99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: the parameter = some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: the parameter 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 some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Equal versus greater than (right-tailed te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66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: the parameter = some value (or l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66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: the parameter &gt; some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32"/>
          <p:cNvGrpSpPr/>
          <p:nvPr/>
        </p:nvGrpSpPr>
        <p:grpSpPr>
          <a:xfrm>
            <a:off x="6234120" y="1117440"/>
            <a:ext cx="2595600" cy="1364760"/>
            <a:chOff x="6234120" y="1117440"/>
            <a:chExt cx="2595600" cy="1364760"/>
          </a:xfrm>
        </p:grpSpPr>
        <p:sp>
          <p:nvSpPr>
            <p:cNvPr id="66" name="Freeform 187"/>
            <p:cNvSpPr/>
            <p:nvPr/>
          </p:nvSpPr>
          <p:spPr>
            <a:xfrm>
              <a:off x="8148600" y="2089080"/>
              <a:ext cx="677880" cy="137880"/>
            </a:xfrm>
            <a:custGeom>
              <a:avLst/>
              <a:gdLst>
                <a:gd name="textAreaLeft" fmla="*/ 0 w 677880"/>
                <a:gd name="textAreaRight" fmla="*/ 677880 w 67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95" y="79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31"/>
            <p:cNvGrpSpPr/>
            <p:nvPr/>
          </p:nvGrpSpPr>
          <p:grpSpPr>
            <a:xfrm>
              <a:off x="6234120" y="1117440"/>
              <a:ext cx="2595600" cy="1114560"/>
              <a:chOff x="6234120" y="1117440"/>
              <a:chExt cx="2595600" cy="1114560"/>
            </a:xfrm>
          </p:grpSpPr>
          <p:sp>
            <p:nvSpPr>
              <p:cNvPr id="68" name="Freeform 163"/>
              <p:cNvSpPr/>
              <p:nvPr/>
            </p:nvSpPr>
            <p:spPr>
              <a:xfrm>
                <a:off x="6234120" y="1117440"/>
                <a:ext cx="2595600" cy="1077120"/>
              </a:xfrm>
              <a:custGeom>
                <a:avLst/>
                <a:gdLst>
                  <a:gd name="textAreaLeft" fmla="*/ 0 w 2595600"/>
                  <a:gd name="textAreaRight" fmla="*/ 2595960 w 2595600"/>
                  <a:gd name="textAreaTop" fmla="*/ 0 h 1077120"/>
                  <a:gd name="textAreaBottom" fmla="*/ 1077480 h 1077120"/>
                </a:gdLst>
                <a:ahLst/>
                <a:rect l="textAreaLeft" t="textAreaTop" r="textAreaRight" b="textAreaBottom"/>
                <a:pathLst>
                  <a:path w="2270" h="1145">
                    <a:moveTo>
                      <a:pt x="0" y="1145"/>
                    </a:moveTo>
                    <a:cubicBezTo>
                      <a:pt x="92" y="1129"/>
                      <a:pt x="413" y="1127"/>
                      <a:pt x="554" y="1048"/>
                    </a:cubicBezTo>
                    <a:cubicBezTo>
                      <a:pt x="695" y="969"/>
                      <a:pt x="750" y="845"/>
                      <a:pt x="844" y="670"/>
                    </a:cubicBezTo>
                    <a:cubicBezTo>
                      <a:pt x="938" y="495"/>
                      <a:pt x="1022" y="0"/>
                      <a:pt x="1118" y="0"/>
                    </a:cubicBezTo>
                    <a:cubicBezTo>
                      <a:pt x="1214" y="0"/>
                      <a:pt x="1321" y="495"/>
                      <a:pt x="1419" y="669"/>
                    </a:cubicBezTo>
                    <a:cubicBezTo>
                      <a:pt x="1517" y="843"/>
                      <a:pt x="1564" y="970"/>
                      <a:pt x="1706" y="1048"/>
                    </a:cubicBezTo>
                    <a:cubicBezTo>
                      <a:pt x="1848" y="1126"/>
                      <a:pt x="2153" y="1119"/>
                      <a:pt x="2270" y="1138"/>
                    </a:cubicBezTo>
                  </a:path>
                </a:pathLst>
              </a:custGeom>
              <a:noFill/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164"/>
              <p:cNvSpPr/>
              <p:nvPr/>
            </p:nvSpPr>
            <p:spPr>
              <a:xfrm>
                <a:off x="6234120" y="2231280"/>
                <a:ext cx="2588760" cy="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" name="Text Box 165"/>
            <p:cNvSpPr/>
            <p:nvPr/>
          </p:nvSpPr>
          <p:spPr>
            <a:xfrm>
              <a:off x="7997760" y="21751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6"/>
            <p:cNvSpPr/>
            <p:nvPr/>
          </p:nvSpPr>
          <p:spPr>
            <a:xfrm>
              <a:off x="8140680" y="214308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33"/>
          <p:cNvGrpSpPr/>
          <p:nvPr/>
        </p:nvGrpSpPr>
        <p:grpSpPr>
          <a:xfrm>
            <a:off x="3273480" y="1117440"/>
            <a:ext cx="2595600" cy="1358280"/>
            <a:chOff x="3273480" y="1117440"/>
            <a:chExt cx="2595600" cy="1358280"/>
          </a:xfrm>
        </p:grpSpPr>
        <p:sp>
          <p:nvSpPr>
            <p:cNvPr id="73" name="Freeform 186"/>
            <p:cNvSpPr/>
            <p:nvPr/>
          </p:nvSpPr>
          <p:spPr>
            <a:xfrm>
              <a:off x="5189760" y="2087640"/>
              <a:ext cx="677880" cy="137880"/>
            </a:xfrm>
            <a:custGeom>
              <a:avLst/>
              <a:gdLst>
                <a:gd name="textAreaLeft" fmla="*/ 0 w 677880"/>
                <a:gd name="textAreaRight" fmla="*/ 677880 w 67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27" h="87">
                  <a:moveTo>
                    <a:pt x="427" y="62"/>
                  </a:moveTo>
                  <a:lnTo>
                    <a:pt x="427" y="87"/>
                  </a:lnTo>
                  <a:lnTo>
                    <a:pt x="187" y="8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76" y="29"/>
                  </a:lnTo>
                  <a:lnTo>
                    <a:pt x="156" y="44"/>
                  </a:lnTo>
                  <a:lnTo>
                    <a:pt x="250" y="54"/>
                  </a:lnTo>
                  <a:lnTo>
                    <a:pt x="344" y="59"/>
                  </a:lnTo>
                  <a:lnTo>
                    <a:pt x="427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85"/>
            <p:cNvSpPr/>
            <p:nvPr/>
          </p:nvSpPr>
          <p:spPr>
            <a:xfrm>
              <a:off x="3284280" y="2085840"/>
              <a:ext cx="677880" cy="147600"/>
            </a:xfrm>
            <a:custGeom>
              <a:avLst/>
              <a:gdLst/>
              <a:ahLst/>
              <a:rect l="l" t="t" r="r" b="b"/>
              <a:pathLst>
                <a:path w="427" h="93">
                  <a:moveTo>
                    <a:pt x="0" y="62"/>
                  </a:moveTo>
                  <a:lnTo>
                    <a:pt x="0" y="87"/>
                  </a:lnTo>
                  <a:lnTo>
                    <a:pt x="228" y="93"/>
                  </a:lnTo>
                  <a:lnTo>
                    <a:pt x="427" y="87"/>
                  </a:lnTo>
                  <a:lnTo>
                    <a:pt x="427" y="0"/>
                  </a:lnTo>
                  <a:lnTo>
                    <a:pt x="351" y="29"/>
                  </a:lnTo>
                  <a:lnTo>
                    <a:pt x="271" y="44"/>
                  </a:lnTo>
                  <a:lnTo>
                    <a:pt x="177" y="54"/>
                  </a:lnTo>
                  <a:lnTo>
                    <a:pt x="83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176"/>
            <p:cNvSpPr/>
            <p:nvPr/>
          </p:nvSpPr>
          <p:spPr>
            <a:xfrm>
              <a:off x="3814560" y="215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177"/>
            <p:cNvSpPr/>
            <p:nvPr/>
          </p:nvSpPr>
          <p:spPr>
            <a:xfrm>
              <a:off x="5027760" y="21686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78"/>
            <p:cNvSpPr/>
            <p:nvPr/>
          </p:nvSpPr>
          <p:spPr>
            <a:xfrm>
              <a:off x="3273480" y="1117440"/>
              <a:ext cx="2595600" cy="107640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2270" h="1145">
                  <a:moveTo>
                    <a:pt x="0" y="1145"/>
                  </a:moveTo>
                  <a:cubicBezTo>
                    <a:pt x="92" y="1129"/>
                    <a:pt x="413" y="1127"/>
                    <a:pt x="554" y="1048"/>
                  </a:cubicBezTo>
                  <a:cubicBezTo>
                    <a:pt x="695" y="969"/>
                    <a:pt x="750" y="845"/>
                    <a:pt x="844" y="670"/>
                  </a:cubicBezTo>
                  <a:cubicBezTo>
                    <a:pt x="938" y="495"/>
                    <a:pt x="1022" y="0"/>
                    <a:pt x="1118" y="0"/>
                  </a:cubicBezTo>
                  <a:cubicBezTo>
                    <a:pt x="1214" y="0"/>
                    <a:pt x="1321" y="495"/>
                    <a:pt x="1419" y="669"/>
                  </a:cubicBezTo>
                  <a:cubicBezTo>
                    <a:pt x="1517" y="843"/>
                    <a:pt x="1564" y="970"/>
                    <a:pt x="1706" y="1048"/>
                  </a:cubicBezTo>
                  <a:cubicBezTo>
                    <a:pt x="1848" y="1126"/>
                    <a:pt x="2153" y="1119"/>
                    <a:pt x="2270" y="1138"/>
                  </a:cubicBezTo>
                </a:path>
              </a:pathLst>
            </a:custGeom>
            <a:noFill/>
            <a:ln w="28440">
              <a:solidFill>
                <a:srgbClr val="99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9"/>
            <p:cNvSpPr/>
            <p:nvPr/>
          </p:nvSpPr>
          <p:spPr>
            <a:xfrm>
              <a:off x="3281400" y="2222640"/>
              <a:ext cx="2581560" cy="1440"/>
            </a:xfrm>
            <a:custGeom>
              <a:avLst/>
              <a:gdLst>
                <a:gd name="textAreaLeft" fmla="*/ 0 w 2581560"/>
                <a:gd name="textAreaRight" fmla="*/ 2581920 w 2581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6" h="1">
                  <a:moveTo>
                    <a:pt x="0" y="0"/>
                  </a:moveTo>
                  <a:lnTo>
                    <a:pt x="1396" y="1"/>
                  </a:lnTo>
                  <a:lnTo>
                    <a:pt x="162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80"/>
            <p:cNvSpPr/>
            <p:nvPr/>
          </p:nvSpPr>
          <p:spPr>
            <a:xfrm>
              <a:off x="5186520" y="213192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81"/>
            <p:cNvSpPr/>
            <p:nvPr/>
          </p:nvSpPr>
          <p:spPr>
            <a:xfrm>
              <a:off x="3962520" y="212400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247680" y="1117440"/>
            <a:ext cx="2597040" cy="1377360"/>
            <a:chOff x="247680" y="1117440"/>
            <a:chExt cx="2597040" cy="1377360"/>
          </a:xfrm>
        </p:grpSpPr>
        <p:sp>
          <p:nvSpPr>
            <p:cNvPr id="82" name="Freeform 184"/>
            <p:cNvSpPr/>
            <p:nvPr/>
          </p:nvSpPr>
          <p:spPr>
            <a:xfrm>
              <a:off x="257040" y="2098800"/>
              <a:ext cx="652320" cy="137880"/>
            </a:xfrm>
            <a:custGeom>
              <a:avLst/>
              <a:gdLst>
                <a:gd name="textAreaLeft" fmla="*/ 0 w 652320"/>
                <a:gd name="textAreaRight" fmla="*/ 652320 w 6523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1" h="87">
                  <a:moveTo>
                    <a:pt x="0" y="62"/>
                  </a:moveTo>
                  <a:lnTo>
                    <a:pt x="0" y="87"/>
                  </a:lnTo>
                  <a:lnTo>
                    <a:pt x="211" y="86"/>
                  </a:lnTo>
                  <a:lnTo>
                    <a:pt x="411" y="87"/>
                  </a:lnTo>
                  <a:lnTo>
                    <a:pt x="411" y="0"/>
                  </a:lnTo>
                  <a:lnTo>
                    <a:pt x="338" y="29"/>
                  </a:lnTo>
                  <a:lnTo>
                    <a:pt x="261" y="44"/>
                  </a:lnTo>
                  <a:lnTo>
                    <a:pt x="170" y="54"/>
                  </a:lnTo>
                  <a:lnTo>
                    <a:pt x="80" y="5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172"/>
            <p:cNvSpPr/>
            <p:nvPr/>
          </p:nvSpPr>
          <p:spPr>
            <a:xfrm>
              <a:off x="769680" y="2187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173"/>
            <p:cNvSpPr/>
            <p:nvPr/>
          </p:nvSpPr>
          <p:spPr>
            <a:xfrm>
              <a:off x="909720" y="2163600"/>
              <a:ext cx="0" cy="13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70"/>
            <p:cNvSpPr/>
            <p:nvPr/>
          </p:nvSpPr>
          <p:spPr>
            <a:xfrm>
              <a:off x="249120" y="1117440"/>
              <a:ext cx="2595600" cy="107640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2270" h="1145">
                  <a:moveTo>
                    <a:pt x="0" y="1145"/>
                  </a:moveTo>
                  <a:cubicBezTo>
                    <a:pt x="92" y="1129"/>
                    <a:pt x="413" y="1127"/>
                    <a:pt x="554" y="1048"/>
                  </a:cubicBezTo>
                  <a:cubicBezTo>
                    <a:pt x="695" y="969"/>
                    <a:pt x="750" y="845"/>
                    <a:pt x="844" y="670"/>
                  </a:cubicBezTo>
                  <a:cubicBezTo>
                    <a:pt x="938" y="495"/>
                    <a:pt x="1022" y="0"/>
                    <a:pt x="1118" y="0"/>
                  </a:cubicBezTo>
                  <a:cubicBezTo>
                    <a:pt x="1214" y="0"/>
                    <a:pt x="1321" y="495"/>
                    <a:pt x="1419" y="669"/>
                  </a:cubicBezTo>
                  <a:cubicBezTo>
                    <a:pt x="1517" y="843"/>
                    <a:pt x="1564" y="970"/>
                    <a:pt x="1706" y="1048"/>
                  </a:cubicBezTo>
                  <a:cubicBezTo>
                    <a:pt x="1848" y="1126"/>
                    <a:pt x="2153" y="1119"/>
                    <a:pt x="2270" y="1138"/>
                  </a:cubicBezTo>
                </a:path>
              </a:pathLst>
            </a:custGeom>
            <a:noFill/>
            <a:ln w="2844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182"/>
            <p:cNvSpPr/>
            <p:nvPr/>
          </p:nvSpPr>
          <p:spPr>
            <a:xfrm>
              <a:off x="247680" y="2235240"/>
              <a:ext cx="2595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Text Box 188"/>
          <p:cNvSpPr/>
          <p:nvPr/>
        </p:nvSpPr>
        <p:spPr>
          <a:xfrm>
            <a:off x="3698640" y="257652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ical Reg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" name="AutoShape 189"/>
          <p:cNvCxnSpPr>
            <a:stCxn id="87" idx="1"/>
            <a:endCxn id="82" idx="2"/>
          </p:cNvCxnSpPr>
          <p:nvPr/>
        </p:nvCxnSpPr>
        <p:spPr>
          <a:xfrm rot="10800000">
            <a:off x="591480" y="2234520"/>
            <a:ext cx="3172320" cy="5101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9" name="AutoShape 190"/>
          <p:cNvCxnSpPr>
            <a:stCxn id="87" idx="1"/>
            <a:endCxn id="74" idx="2"/>
          </p:cNvCxnSpPr>
          <p:nvPr/>
        </p:nvCxnSpPr>
        <p:spPr>
          <a:xfrm rot="10800000">
            <a:off x="3645720" y="2232720"/>
            <a:ext cx="118080" cy="511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0" name="AutoShape 191"/>
          <p:cNvCxnSpPr>
            <a:stCxn id="87" idx="3"/>
            <a:endCxn id="66" idx="2"/>
          </p:cNvCxnSpPr>
          <p:nvPr/>
        </p:nvCxnSpPr>
        <p:spPr>
          <a:xfrm flipV="1">
            <a:off x="5355720" y="2214360"/>
            <a:ext cx="3102840" cy="530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1" name="AutoShape 192"/>
          <p:cNvCxnSpPr>
            <a:stCxn id="87" idx="3"/>
            <a:endCxn id="73" idx="2"/>
          </p:cNvCxnSpPr>
          <p:nvPr/>
        </p:nvCxnSpPr>
        <p:spPr>
          <a:xfrm flipV="1">
            <a:off x="5356080" y="2223720"/>
            <a:ext cx="131040" cy="521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2" name="Oval 30"/>
          <p:cNvSpPr/>
          <p:nvPr/>
        </p:nvSpPr>
        <p:spPr>
          <a:xfrm>
            <a:off x="1295280" y="1676520"/>
            <a:ext cx="457200" cy="4338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4343400" y="1676520"/>
            <a:ext cx="457200" cy="4338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7315200" y="1676520"/>
            <a:ext cx="457200" cy="4338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Arial"/>
              </a:rPr>
              <a:t>English Phrases Revisited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334360" cy="3406680"/>
        </p:xfrm>
        <a:graphic>
          <a:graphicData uri="http://schemas.openxmlformats.org/drawingml/2006/table">
            <a:tbl>
              <a:tblPr/>
              <a:tblGrid>
                <a:gridCol w="216216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h Symb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Phr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t le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 less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Greater than or equal 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ore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Greater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ewer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 more th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t 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ess than or equal 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37080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xact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qu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ifferent fr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Headlee</dc:creator>
  <dc:description/>
  <dc:language>en-US</dc:language>
  <cp:lastModifiedBy>scox</cp:lastModifiedBy>
  <dcterms:modified xsi:type="dcterms:W3CDTF">2012-02-14T16:51:40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